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7D24-1FC1-479E-85B2-62DFAD6455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0E09-59D9-4340-873E-38120FBF261F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9E79-9B1A-4F72-8252-5B5EE2EAF1E1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D88-20B7-45E3-BD5F-8539893E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2C2-9FD9-4732-A37E-3D295D11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8EF-F27E-4C6E-9EBC-25F6D47B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251-3AE4-47FB-B836-CE4B7814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DEB8-AC16-4652-9D40-E4930F5A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1DCB-FA6B-4E39-A001-6FCC98DA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0CF7-7EB0-45E0-8744-060DF8E8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7204-72F4-4B93-A46A-CD0A0FA4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D2E2-4DB6-4250-879B-3BD25829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F96D-CB20-4C8D-8F51-58F7E44E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E133-736B-40EF-9043-8D675D7B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550-C0F6-4B05-8667-FA2D5D90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6492-B41A-46FF-88F4-F66C7D3B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414F-5BD6-42F5-8FF7-EC786A5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67F2-7FDE-4E8A-AC62-FA8FED60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DC46-655C-4897-B96C-A8C7D8EC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9CF2-02DF-4D95-9643-76B1480F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9CF-48B2-4DAE-B909-CF8F768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3F5-4202-4841-A94E-CC6D07A5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EFD-A7E6-4B88-BC8D-C0E5B627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005-4D0C-4837-983A-DAA94DA1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280-FF82-4A68-838B-E2832A3A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2E0-4C76-4BA2-AB2B-6B6015E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6B6-40C5-430B-9C4A-1577E81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AC26-1188-4CD3-80F4-142D34F17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16B9-F8F6-4C99-9DB9-1160D9406800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533880"/>
            <a:ext cx="9067680" cy="495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Міністерство освіти і науки України</a:t>
            </a:r>
            <a:br>
              <a:rPr sz="2800"/>
            </a:b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Сумський державний університет</a:t>
            </a:r>
            <a:br>
              <a:rPr sz="2800"/>
            </a:b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Медичний інститут</a:t>
            </a:r>
            <a:br>
              <a:rPr sz="2800"/>
            </a:b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Кафедра хірургії з дитячою хірургією з курсом урології</a:t>
            </a:r>
            <a:br>
              <a:rPr sz="28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3600" spc="-1" strike="noStrike">
                <a:solidFill>
                  <a:srgbClr val="0000ff"/>
                </a:solidFill>
                <a:latin typeface="Dotum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Dotum"/>
              </a:rPr>
              <a:t>	</a:t>
            </a:r>
            <a:r>
              <a:rPr b="1" i="1" lang="ru-RU" sz="3600" spc="-1" strike="noStrike">
                <a:solidFill>
                  <a:srgbClr val="0000ff"/>
                </a:solidFill>
                <a:latin typeface="Dotum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БГРУНТУВАННЯ ВИБОРУ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МОМЕНТУ КОНВЕРСІЇ ПІД ЧАС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ЛАПАРОСКОПІЧНОЇ ХОЛЕЦИСТЕКТОМІ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47239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i="1" lang="uk-UA" sz="1800" spc="-1" strike="noStrike">
                <a:solidFill>
                  <a:srgbClr val="003366"/>
                </a:solidFill>
                <a:latin typeface="Times New Roman"/>
              </a:rPr>
              <a:t>Магістрант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Times New Roman"/>
              </a:rPr>
              <a:t>Антоненко О.М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Times New Roman"/>
              </a:rPr>
              <a:t>Науковий керівник: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Times New Roman"/>
              </a:rPr>
              <a:t>д.м.н., проф. Леонов В.В</a:t>
            </a:r>
            <a:r>
              <a:rPr b="1" lang="uk-UA" sz="1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3366"/>
                </a:solidFill>
                <a:latin typeface="Times New Roman"/>
              </a:rPr>
              <a:t>Суми - 2016</a:t>
            </a:r>
            <a:endParaRPr b="0" lang="en-US" sz="1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3300"/>
                </a:solidFill>
                <a:latin typeface="Times New Roman"/>
              </a:rPr>
              <a:t>Кількість випадків конверсії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784872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Times New Roman"/>
              </a:rPr>
              <a:t>Причини інтраопераційних ускладнень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- виражений злуковий процес очеревини,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- щільний перивезикулярний інфільтрат,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700" spc="-1" strike="noStrike">
                <a:solidFill>
                  <a:srgbClr val="000000"/>
                </a:solidFill>
                <a:latin typeface="Times New Roman"/>
              </a:rPr>
              <a:t>які являються показами для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uk-UA" sz="2700" spc="-1" strike="noStrike">
                <a:solidFill>
                  <a:srgbClr val="000000"/>
                </a:solidFill>
                <a:latin typeface="Times New Roman"/>
              </a:rPr>
              <a:t>профілактичної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i="1" lang="uk-UA" sz="2700" spc="-1" strike="noStrike">
                <a:solidFill>
                  <a:srgbClr val="000000"/>
                </a:solidFill>
                <a:latin typeface="Times New Roman"/>
              </a:rPr>
              <a:t> конверсії.</a:t>
            </a:r>
            <a:endParaRPr b="0" lang="en-US" sz="27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imes New Roman"/>
              </a:rPr>
              <a:t>Інтраопераційні ускладнення ЛХЕ</a:t>
            </a:r>
            <a:r>
              <a:rPr b="0" i="1" lang="uk-UA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масивна кровотеча,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травма структур гепатобіліарної системи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пошкодження  органів черевної порожнини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несправність обладнання,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являються показами для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</a:t>
            </a:r>
            <a:r>
              <a:rPr b="0" i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имушеної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»</a:t>
            </a:r>
            <a:r>
              <a:rPr b="0" i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конверсії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imes New Roman"/>
              </a:rPr>
              <a:t>Тривалість початкових етапів операції в групі порівнянн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78"/>
          <p:cNvSpPr/>
          <p:nvPr/>
        </p:nvSpPr>
        <p:spPr>
          <a:xfrm>
            <a:off x="4229280" y="2043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5" name="Диаграмма 50" descr=""/>
          <p:cNvPicPr/>
          <p:nvPr/>
        </p:nvPicPr>
        <p:blipFill>
          <a:blip r:embed="rId2"/>
          <a:stretch/>
        </p:blipFill>
        <p:spPr>
          <a:xfrm>
            <a:off x="633240" y="1749600"/>
            <a:ext cx="8017200" cy="49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3300"/>
                </a:solidFill>
                <a:latin typeface="Times New Roman"/>
              </a:rPr>
              <a:t>Часові терміни від початку операції, в які відмічено ускладнення, що потребували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</a:t>
            </a:r>
            <a:r>
              <a:rPr b="0" i="1" lang="uk-UA" sz="3200" spc="-1" strike="noStrike">
                <a:solidFill>
                  <a:srgbClr val="ff3300"/>
                </a:solidFill>
                <a:latin typeface="Times New Roman"/>
              </a:rPr>
              <a:t>вимушеної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»</a:t>
            </a:r>
            <a:r>
              <a:rPr b="0" i="1" lang="uk-UA" sz="3200" spc="-1" strike="noStrike">
                <a:solidFill>
                  <a:srgbClr val="ff3300"/>
                </a:solidFill>
                <a:latin typeface="Times New Roman"/>
              </a:rPr>
              <a:t> конверсі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88"/>
          <p:cNvSpPr/>
          <p:nvPr/>
        </p:nvSpPr>
        <p:spPr>
          <a:xfrm>
            <a:off x="3921120" y="210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8" name="Диаграмма 59" descr=""/>
          <p:cNvPicPr/>
          <p:nvPr/>
        </p:nvPicPr>
        <p:blipFill>
          <a:blip r:embed="rId2"/>
          <a:stretch/>
        </p:blipFill>
        <p:spPr>
          <a:xfrm>
            <a:off x="1133640" y="1639800"/>
            <a:ext cx="6943680" cy="4797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31708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Times New Roman"/>
              </a:rPr>
              <a:t>Прослідковується, що інтраопераційні ускладнення виникали в проміжку від 45-ї до 60-ї хвилини від початку операції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773000"/>
            <a:ext cx="89154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3366"/>
                </a:solidFill>
                <a:latin typeface="Times New Roman"/>
              </a:rPr>
              <a:t>Розрахувавши часові межі початкових етапів ЛХЕ в групі порівняння, вирішено взяти за оптимальний час для виконання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</a:t>
            </a:r>
            <a:r>
              <a:rPr b="1" lang="uk-UA" sz="2800" spc="-1" strike="noStrike">
                <a:solidFill>
                  <a:srgbClr val="003366"/>
                </a:solidFill>
                <a:latin typeface="Times New Roman"/>
              </a:rPr>
              <a:t>профілактичної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»</a:t>
            </a:r>
            <a:r>
              <a:rPr b="1" lang="uk-UA" sz="2800" spc="-1" strike="noStrike">
                <a:solidFill>
                  <a:srgbClr val="003366"/>
                </a:solidFill>
                <a:latin typeface="Times New Roman"/>
              </a:rPr>
              <a:t> конверсії – 45 хв від початку операції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*Даний показник часу розраховано, виходячи з того, що перші 3 етапи (інсуфляція СО</a:t>
            </a: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, встановлення 4 портів, оцінка інтраабдомінальної картини) виконуються в межах 15 хв незалежно від патології та 30 хв, як загально прийнятого часового проміжку для виділення і підготовки до кліпування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t a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ystica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3300"/>
                </a:solidFill>
                <a:latin typeface="Times New Roman"/>
              </a:rPr>
              <a:t>АЛГОРИТМ ДІЙ ХІРУРГА ПРИ УСКЛАДНЕННЯХ ВИКОНАННЯ ЛХЕ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0" y="341280"/>
            <a:ext cx="8915400" cy="6516720"/>
            <a:chOff x="0" y="341280"/>
            <a:chExt cx="8915400" cy="6516720"/>
          </a:xfrm>
        </p:grpSpPr>
        <p:sp>
          <p:nvSpPr>
            <p:cNvPr id="124" name="AutoShape 5"/>
            <p:cNvSpPr/>
            <p:nvPr/>
          </p:nvSpPr>
          <p:spPr>
            <a:xfrm>
              <a:off x="0" y="341280"/>
              <a:ext cx="8915400" cy="65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3542760" y="535680"/>
              <a:ext cx="3143520" cy="48636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66"/>
                  </a:solidFill>
                  <a:latin typeface="Times New Roman"/>
                </a:rPr>
                <a:t>ЛХЕ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171360" y="1411200"/>
              <a:ext cx="3258000" cy="291600"/>
            </a:xfrm>
            <a:prstGeom prst="rect">
              <a:avLst/>
            </a:prstGeom>
            <a:solidFill>
              <a:srgbClr val="7d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Без технічних складнощів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 flipH="1">
              <a:off x="3942360" y="1022040"/>
              <a:ext cx="1029240" cy="8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686280" y="1022040"/>
              <a:ext cx="686160" cy="77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1370880" y="2188800"/>
              <a:ext cx="3258000" cy="583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Times New Roman"/>
                </a:rPr>
                <a:t>1. Виражений злуковий процес очеревини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Times New Roman"/>
                </a:rPr>
                <a:t>2. Щільний перивезикулярний інфільтрат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Rectangle 11"/>
            <p:cNvSpPr/>
            <p:nvPr/>
          </p:nvSpPr>
          <p:spPr>
            <a:xfrm>
              <a:off x="5658120" y="2091600"/>
              <a:ext cx="3256920" cy="7779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1. Масивна кровотеча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003366"/>
                  </a:solidFill>
                  <a:latin typeface="Times New Roman"/>
                </a:rPr>
                <a:t>V</a:t>
              </a: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 ˃ 500 </a:t>
              </a:r>
              <a:r>
                <a:rPr b="1" lang="en-US" sz="1000" spc="-1" strike="noStrike">
                  <a:solidFill>
                    <a:srgbClr val="003366"/>
                  </a:solidFill>
                  <a:latin typeface="Times New Roman"/>
                </a:rPr>
                <a:t>ml</a:t>
              </a: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2. Пошкодження органів ЧП та структур ГБС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3366"/>
                  </a:solidFill>
                  <a:latin typeface="Times New Roman"/>
                </a:rPr>
                <a:t>3. Несправність обладнання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Rectangle 12"/>
            <p:cNvSpPr/>
            <p:nvPr/>
          </p:nvSpPr>
          <p:spPr>
            <a:xfrm>
              <a:off x="514440" y="3745440"/>
              <a:ext cx="2571840" cy="484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«Профілактична»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конверсія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6171840" y="3453480"/>
              <a:ext cx="2057040" cy="48564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«Вимушена» 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Times New Roman"/>
                </a:rPr>
                <a:t>конверсія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 flipH="1">
              <a:off x="857520" y="5204160"/>
              <a:ext cx="72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>
              <a:off x="6514920" y="4523040"/>
              <a:ext cx="108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342720" y="5787720"/>
              <a:ext cx="2571840" cy="48564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"/>
                </a:rPr>
                <a:t>Одужання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Rectangle 17"/>
            <p:cNvSpPr/>
            <p:nvPr/>
          </p:nvSpPr>
          <p:spPr>
            <a:xfrm>
              <a:off x="5486760" y="4912200"/>
              <a:ext cx="2400480" cy="3888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можливі віддалені 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наслідки ускладнень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1370880" y="4523040"/>
              <a:ext cx="4457520" cy="12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Line 19"/>
            <p:cNvSpPr/>
            <p:nvPr/>
          </p:nvSpPr>
          <p:spPr>
            <a:xfrm flipH="1">
              <a:off x="2228400" y="5106960"/>
              <a:ext cx="32580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Rectangle 20"/>
            <p:cNvSpPr/>
            <p:nvPr/>
          </p:nvSpPr>
          <p:spPr>
            <a:xfrm>
              <a:off x="3942720" y="5690520"/>
              <a:ext cx="1886760" cy="778680"/>
            </a:xfrm>
            <a:prstGeom prst="rect">
              <a:avLst/>
            </a:prstGeom>
            <a:solidFill>
              <a:srgbClr val="5ca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3366"/>
                  </a:solidFill>
                  <a:latin typeface="Times New Roman"/>
                </a:rPr>
                <a:t>повторні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3366"/>
                  </a:solidFill>
                  <a:latin typeface="Times New Roman"/>
                </a:rPr>
                <a:t>оперативні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3366"/>
                  </a:solidFill>
                  <a:latin typeface="Times New Roman"/>
                </a:rPr>
                <a:t>втручання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Line 21"/>
            <p:cNvSpPr/>
            <p:nvPr/>
          </p:nvSpPr>
          <p:spPr>
            <a:xfrm flipH="1">
              <a:off x="5828760" y="5301360"/>
              <a:ext cx="85752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Line 22"/>
            <p:cNvSpPr/>
            <p:nvPr/>
          </p:nvSpPr>
          <p:spPr>
            <a:xfrm flipH="1">
              <a:off x="2914560" y="5982480"/>
              <a:ext cx="1027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Rectangle 23"/>
            <p:cNvSpPr/>
            <p:nvPr/>
          </p:nvSpPr>
          <p:spPr>
            <a:xfrm>
              <a:off x="6686280" y="6176520"/>
              <a:ext cx="1542600" cy="584280"/>
            </a:xfrm>
            <a:prstGeom prst="rect">
              <a:avLst/>
            </a:prstGeom>
            <a:solidFill>
              <a:srgbClr val="f5fc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залишкові явища ускладнень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>
              <a:off x="5828760" y="6176520"/>
              <a:ext cx="85752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H="1">
              <a:off x="8057520" y="4523040"/>
              <a:ext cx="171360" cy="165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Line 26"/>
            <p:cNvSpPr/>
            <p:nvPr/>
          </p:nvSpPr>
          <p:spPr>
            <a:xfrm>
              <a:off x="7544160" y="2869920"/>
              <a:ext cx="72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1885320" y="1022040"/>
              <a:ext cx="171396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5658120" y="4231080"/>
              <a:ext cx="2742120" cy="291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Times New Roman"/>
                </a:rPr>
                <a:t>корекція ускладнень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Line 29"/>
            <p:cNvSpPr/>
            <p:nvPr/>
          </p:nvSpPr>
          <p:spPr>
            <a:xfrm>
              <a:off x="7029360" y="3939480"/>
              <a:ext cx="72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14440" y="4620240"/>
              <a:ext cx="2400480" cy="58356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виділення структур 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∆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Calot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 + основний 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етап операції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>
              <a:off x="1542240" y="4231080"/>
              <a:ext cx="108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Line 32"/>
            <p:cNvSpPr/>
            <p:nvPr/>
          </p:nvSpPr>
          <p:spPr>
            <a:xfrm>
              <a:off x="342720" y="1702440"/>
              <a:ext cx="1080" cy="32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>
              <a:off x="342720" y="4912200"/>
              <a:ext cx="171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Line 34"/>
            <p:cNvSpPr/>
            <p:nvPr/>
          </p:nvSpPr>
          <p:spPr>
            <a:xfrm flipH="1">
              <a:off x="3771000" y="6662880"/>
              <a:ext cx="2914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 flipH="1" flipV="1">
              <a:off x="2914560" y="6176160"/>
              <a:ext cx="856440" cy="4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3258000" y="3356280"/>
              <a:ext cx="2055960" cy="58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спроби виділення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d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.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et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. </a:t>
              </a:r>
              <a:r>
                <a:rPr b="0" lang="en-US" sz="1200" spc="-1" strike="noStrike">
                  <a:solidFill>
                    <a:srgbClr val="003366"/>
                  </a:solidFill>
                  <a:latin typeface="Times New Roman"/>
                </a:rPr>
                <a:t>cystica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до </a:t>
              </a: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30 хв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Line 37"/>
            <p:cNvSpPr/>
            <p:nvPr/>
          </p:nvSpPr>
          <p:spPr>
            <a:xfrm>
              <a:off x="3600000" y="2772720"/>
              <a:ext cx="72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1199520" y="3064320"/>
              <a:ext cx="1372320" cy="388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спроба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негативна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Line 39"/>
            <p:cNvSpPr/>
            <p:nvPr/>
          </p:nvSpPr>
          <p:spPr>
            <a:xfrm flipH="1" flipV="1">
              <a:off x="2571840" y="3258720"/>
              <a:ext cx="68616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Line 40"/>
            <p:cNvSpPr/>
            <p:nvPr/>
          </p:nvSpPr>
          <p:spPr>
            <a:xfrm>
              <a:off x="1885680" y="3453480"/>
              <a:ext cx="72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Rectangle 41"/>
            <p:cNvSpPr/>
            <p:nvPr/>
          </p:nvSpPr>
          <p:spPr>
            <a:xfrm>
              <a:off x="3600000" y="4133880"/>
              <a:ext cx="1543680" cy="388800"/>
            </a:xfrm>
            <a:prstGeom prst="rect">
              <a:avLst/>
            </a:prstGeom>
            <a:solidFill>
              <a:srgbClr val="57d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спроба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позитивна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Line 42"/>
            <p:cNvSpPr/>
            <p:nvPr/>
          </p:nvSpPr>
          <p:spPr>
            <a:xfrm>
              <a:off x="4286160" y="3939480"/>
              <a:ext cx="72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Line 43"/>
            <p:cNvSpPr/>
            <p:nvPr/>
          </p:nvSpPr>
          <p:spPr>
            <a:xfrm flipH="1">
              <a:off x="2914560" y="4523040"/>
              <a:ext cx="137124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Line 44"/>
            <p:cNvSpPr/>
            <p:nvPr/>
          </p:nvSpPr>
          <p:spPr>
            <a:xfrm flipH="1" flipV="1">
              <a:off x="5486400" y="1994040"/>
              <a:ext cx="1080" cy="16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Line 45"/>
            <p:cNvSpPr/>
            <p:nvPr/>
          </p:nvSpPr>
          <p:spPr>
            <a:xfrm>
              <a:off x="5486760" y="1994400"/>
              <a:ext cx="171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Rectangle 46"/>
            <p:cNvSpPr/>
            <p:nvPr/>
          </p:nvSpPr>
          <p:spPr>
            <a:xfrm>
              <a:off x="3258000" y="2967120"/>
              <a:ext cx="2055960" cy="388800"/>
            </a:xfrm>
            <a:prstGeom prst="rect">
              <a:avLst/>
            </a:prstGeom>
            <a:solidFill>
              <a:srgbClr val="f5fc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початкові етапи операції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3366"/>
                  </a:solidFill>
                  <a:latin typeface="Times New Roman"/>
                </a:rPr>
                <a:t>до </a:t>
              </a: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15 хв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Line 47"/>
            <p:cNvSpPr/>
            <p:nvPr/>
          </p:nvSpPr>
          <p:spPr>
            <a:xfrm>
              <a:off x="5315400" y="364824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Rectangle 48"/>
            <p:cNvSpPr/>
            <p:nvPr/>
          </p:nvSpPr>
          <p:spPr>
            <a:xfrm>
              <a:off x="1370880" y="1897200"/>
              <a:ext cx="3258000" cy="291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Times New Roman"/>
                </a:rPr>
                <a:t>Технічні складнощі :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Line 49"/>
            <p:cNvSpPr/>
            <p:nvPr/>
          </p:nvSpPr>
          <p:spPr>
            <a:xfrm>
              <a:off x="5315400" y="322308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Rectangle 50"/>
            <p:cNvSpPr/>
            <p:nvPr/>
          </p:nvSpPr>
          <p:spPr>
            <a:xfrm>
              <a:off x="5657040" y="1799640"/>
              <a:ext cx="3258000" cy="2919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Times New Roman"/>
                </a:rPr>
                <a:t>Інтраопераційні ускладнення: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Порівняння тривалості початкових </a:t>
            </a:r>
            <a:br>
              <a:rPr sz="3200"/>
            </a:b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етапів операції з конверсією </a:t>
            </a:r>
            <a:br>
              <a:rPr sz="3200"/>
            </a:br>
            <a:r>
              <a:rPr b="0" i="1" lang="ru-RU" sz="3200" spc="-1" strike="noStrike">
                <a:solidFill>
                  <a:srgbClr val="ff3300"/>
                </a:solidFill>
                <a:latin typeface="Times New Roman"/>
              </a:rPr>
              <a:t>в досліджуваних гру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78"/>
          <p:cNvSpPr/>
          <p:nvPr/>
        </p:nvSpPr>
        <p:spPr>
          <a:xfrm>
            <a:off x="4057560" y="2050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2" name="Диаграмма 4" descr=""/>
          <p:cNvPicPr/>
          <p:nvPr/>
        </p:nvPicPr>
        <p:blipFill>
          <a:blip r:embed="rId2"/>
          <a:stretch/>
        </p:blipFill>
        <p:spPr>
          <a:xfrm>
            <a:off x="633240" y="1779480"/>
            <a:ext cx="8156880" cy="46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Причини та частота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профілактичної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»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 конверсії при ЛХЕ в обох гру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104"/>
          <p:cNvSpPr/>
          <p:nvPr/>
        </p:nvSpPr>
        <p:spPr>
          <a:xfrm>
            <a:off x="3371760" y="25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28760" y="1752480"/>
            <a:ext cx="8358120" cy="4819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Порівняння причин та частоти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вимушеної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»</a:t>
            </a: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 конверсії при ЛХЕ в досліджуваних гру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185"/>
          <p:cNvSpPr/>
          <p:nvPr/>
        </p:nvSpPr>
        <p:spPr>
          <a:xfrm>
            <a:off x="3314880" y="1832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Line 786"/>
          <p:cNvSpPr/>
          <p:nvPr/>
        </p:nvSpPr>
        <p:spPr>
          <a:xfrm>
            <a:off x="3314880" y="1614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09480" y="1752480"/>
          <a:ext cx="7772400" cy="4637160"/>
        </p:xfrm>
        <a:graphic>
          <a:graphicData uri="http://schemas.openxmlformats.org/drawingml/2006/table">
            <a:tbl>
              <a:tblPr/>
              <a:tblGrid>
                <a:gridCol w="1644840"/>
                <a:gridCol w="596880"/>
                <a:gridCol w="598320"/>
                <a:gridCol w="598680"/>
                <a:gridCol w="447480"/>
                <a:gridCol w="747720"/>
                <a:gridCol w="596880"/>
                <a:gridCol w="598680"/>
                <a:gridCol w="598320"/>
                <a:gridCol w="746280"/>
                <a:gridCol w="598320"/>
              </a:tblGrid>
              <a:tr h="276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озподіл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руп за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атологією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складненн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сновна груп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рупа порівнян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 =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85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 =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489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Г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 =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59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 =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519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n =</a:t>
                      </a: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1152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uk-UA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мер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бс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помер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асивна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ровотеч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,0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ошкодження трубчатих структур ГБС та органів ЧП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гепатикохоледо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тонка кишка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12-ти пала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(1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(1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товста кишк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(1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(1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Виснов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1. Причинами інтраопераційних ускладнень 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є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виражений злуковий процес очеревини та щільний перевизикулярний інфільтрат, які в разі невдалої спроби виділення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. et a. cystica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 являються показами для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філактичної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»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конверсії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2. Інтраопераційними ускладненнями лапароскопічної холецистектомії були: масивна кровотеча, травма структур гепатобіліарної системи, пошкодження органів черевної порожнини.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. 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Оптимальний термін для виконання «профілактичної» конверсії становить 45 хв від початку лапароскопічної холецистектомії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4. Використання запропонованого алгоритму дало змогу знизити частоти інтраопераційних ускладнень з 2 % до 0,7 %  (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&lt;0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05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) та запобігти післяопераційній летальності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Актуальність те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Лапароскопічна холецистектомія (ЛХЕ) на сьогоднішній день є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олотим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»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тандартом у лікуванні жовчнокам’яної хвороби (ЖКХ). Але виконання даного втручання 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все ж несе за собою цілу низку  інтра- та післяопераційних ускладнень, які створюють проблеми як хірургу, так і його пацієнту, тому вони заслуговують значної уваги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uk-UA" sz="2800" spc="-1" strike="noStrike">
                <a:solidFill>
                  <a:srgbClr val="003366"/>
                </a:solidFill>
                <a:latin typeface="Times New Roman"/>
              </a:rPr>
              <a:t>Важливим питанням залишається обґрунтування вибору моменту конверсії (перехід до відкритої операції) на різних етапах ЛХЕ, з метою профілактики та ліквідації інтраопераційних ускладнень.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Практичні рекомендації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785960"/>
            <a:ext cx="8763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1. Показами для «профілактичної» конверсії є виражений злуковий процес очеревини та щільний перивезикулярний інфільтрат; для «вимушеної» – масивна кровотеча, пошкодження структур гепатобіліарної системи та органів черевної порожнини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2. Рекомендовано виконувати «профілактичну» конверсію не пізніше 45 хвилини від початку ЛХЕ, 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 також розглянути можливість про внесення даного положення в стандарти малоінвазивного лікування жовчнокам’яної хвороби. 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. Розроблений алгоритм дій при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складненнях виконання лапароскопічної холецистектомії, 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доцільно впровадити в широкий хірургічний загал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4. Використання запропонованої методики дає змогу попередити інтраопераційні ускладнення та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зменшити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 післяопераційну летальність.</a:t>
            </a:r>
            <a:r>
              <a:rPr b="1" lang="uk-UA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4479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3300"/>
                </a:solidFill>
                <a:latin typeface="Times New Roman"/>
              </a:rPr>
              <a:t>Дякую за увагу 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Мета досліджен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uk-UA" sz="4000" spc="-1" strike="noStrike">
                <a:solidFill>
                  <a:srgbClr val="003366"/>
                </a:solidFill>
                <a:latin typeface="Times New Roman"/>
              </a:rPr>
              <a:t>Покращити результати лікування хворих на ЖКХ, шляхом уточнення показів та часу для виконання конверсії при ЛХЕ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Задачі досліджен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Провести аналіз причин та видів інтраопераційних ускладнень ЛХЕ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2. Уточнити показання для конверсії при ЛХЕ з метою профілактики інтраопераційних ускладнень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3. Визначити оптимальний термін для вибору моменту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«профілактичної»</a:t>
            </a: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 конверсії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Times New Roman"/>
              </a:rPr>
              <a:t>4. Порівняти результати лікування хворих на ЖКХ з урахуванням уточнених показів та оптимального часу для виконання конверсії при ЛХЕ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Times New Roman"/>
              </a:rPr>
              <a:t>Наукова новизна отриманих результатів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Уточнено покази до проведення «профілактичної» конверсії, з урахуванням часу від початку операції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3366"/>
                </a:solidFill>
                <a:latin typeface="Times New Roman"/>
              </a:rPr>
              <a:t>Обґрунтовано та впроваджено алгоритм дій хірурга при ускладненнях виконання ЛХЕ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Times New Roman"/>
              </a:rPr>
              <a:t>Матеріали та метод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Дослідження проведено на базі відділення лапароскопічної 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та малоінвазивної хірургії КЛПЗ “Прилуцької центральної міської лікарні”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Загальна кількість проведених ЛХЕ за період 2010 – 2015 рр. склала 1152 операції, з яких конверсія мала місце в </a:t>
            </a:r>
            <a:r>
              <a:rPr b="0" lang="uk-UA" sz="2000" spc="-1" strike="noStrike">
                <a:solidFill>
                  <a:srgbClr val="ff6600"/>
                </a:solidFill>
                <a:latin typeface="Times New Roman"/>
              </a:rPr>
              <a:t>40 (3,5 %)</a:t>
            </a:r>
            <a:r>
              <a:rPr b="0" lang="uk-UA" sz="2000" spc="-1" strike="noStrike">
                <a:solidFill>
                  <a:srgbClr val="003366"/>
                </a:solidFill>
                <a:latin typeface="Times New Roman"/>
              </a:rPr>
              <a:t> випадках.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7391520" cy="3124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0000"/>
                </a:solidFill>
                <a:latin typeface="Times New Roman"/>
              </a:rPr>
              <a:t>Пацієнти розподілені на груп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uk-UA" sz="3400" spc="-1" strike="noStrike">
                <a:solidFill>
                  <a:srgbClr val="003366"/>
                </a:solidFill>
                <a:latin typeface="Times New Roman"/>
              </a:rPr>
              <a:t>групу порівняння складало 578 хворих прооперованих за період 2010 – 2012 рр., в якій конверсія виконувалася за загальноприйнятими положеннями;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uk-UA" sz="3400" spc="-1" strike="noStrike">
                <a:solidFill>
                  <a:srgbClr val="003366"/>
                </a:solidFill>
                <a:latin typeface="Times New Roman"/>
              </a:rPr>
              <a:t>основна група налічувала 574 пацієнти прооперовані за період 2013 – 2015 рр., в якій </a:t>
            </a:r>
            <a:r>
              <a:rPr b="0" lang="uk-UA" sz="3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uk-UA" sz="3400" spc="-1" strike="noStrike">
                <a:solidFill>
                  <a:srgbClr val="003366"/>
                </a:solidFill>
                <a:latin typeface="Times New Roman"/>
              </a:rPr>
              <a:t>конверсія проводилася за розробленим алгоритмом.</a:t>
            </a:r>
            <a:endParaRPr b="0" lang="en-US" sz="3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imes New Roman"/>
              </a:rPr>
              <a:t>Розподіл пацієнтів за статт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Rectangle 3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7315200" cy="3505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533376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3300"/>
                </a:solidFill>
                <a:latin typeface="Times New Roman"/>
              </a:rPr>
              <a:t>Середній вік хворих склав: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у групі порівняння 5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±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12,5 років;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+ в основній групі 5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±</a:t>
            </a:r>
            <a:r>
              <a:rPr b="0" lang="uk-UA" sz="2400" spc="-1" strike="noStrike">
                <a:solidFill>
                  <a:srgbClr val="003366"/>
                </a:solidFill>
                <a:latin typeface="Times New Roman"/>
              </a:rPr>
              <a:t>10,3 роки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3300"/>
                </a:solidFill>
                <a:latin typeface="Times New Roman"/>
              </a:rPr>
              <a:t>Розподіл хворих за патологіє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84836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08:33:58Z</dcterms:created>
  <dc:creator>Antonenko</dc:creator>
  <dc:description/>
  <dc:language>en-US</dc:language>
  <cp:lastModifiedBy>DrLove</cp:lastModifiedBy>
  <dcterms:modified xsi:type="dcterms:W3CDTF">2016-05-14T08:24:13Z</dcterms:modified>
  <cp:revision>15</cp:revision>
  <dc:subject/>
  <dc:title>Міністерство освіти і науки України Сумський державний університет Медичний інститут Кафедра хірургії з дитячою хірургією з курсом урології       ОБГРУНТУВАННЯ ВИБОРУ  МОМЕНТУ КОНВЕРСІЇ ПІД ЧАС  ЛАПАРОСКОПІЧНОЇ ХОЛЕЦИСТЕКТОМ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49</vt:lpwstr>
  </property>
</Properties>
</file>